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1133-03FD-451D-916A-183EC7B91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F1DD-EFD5-49D0-A155-E93ABB45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A62AA-90F6-46B8-A1F0-4533BC92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BBC14-C122-423B-A34A-CECC77A9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FB3EF-315F-48A8-A829-8D702E82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229E1-B343-4F12-9EBC-07FBAEE3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A507B-99A3-4ECD-AFB9-B404F9CA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64559-7206-4BA5-A2AE-02D7696A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65145-05F8-42AB-A921-4959FEB5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91609-A6DF-4DAD-AFC1-5820DAA39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30142-42E2-4712-B8BF-939D58BF0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75F64-9D1F-4429-9E0E-B0EBE837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9697-F9E1-457B-930B-9B5791C3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D5C1E-57B4-44C2-8219-4EA4C169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32871-A2A2-458E-A9EF-68276492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7D70F-A020-4242-A76C-11A86B2F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DBA6C-3E23-40BC-B97D-4A248ABE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A1DE3-A920-4246-98A9-1DCC4668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CD27A3-3CE1-4827-AD78-F6C68B87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ACB5A-E1A5-4D8E-8468-F7511001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21C4A-BA1F-48CE-86F0-6BD15D06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C424E-3A23-4192-B348-157A9478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53ABB-D12A-4E5F-A37E-F696D863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1394-B762-4841-86EE-2F850A541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90663-7AA3-4F58-A4BA-169AF270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8B288-04B1-4385-9FA8-6AE905BE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21607-F7E6-458A-B8EC-73181132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9ABC8-7B62-47A2-9E2B-1EF880F9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48036-5BB5-48C3-8789-6DC6CCA3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7B53F-9128-41B6-A510-DBE92F17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2C673-BD0C-46D9-8F63-891D9883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CF249-C3EA-49A7-B683-F3955542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B8D09-96C8-4BC8-AF5A-1C9F9615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3DF89-CACC-485D-B090-1BA2506F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D423-8F78-43D1-8784-B481DBD70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B9E64-6EB2-41D8-9E21-C7019B19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2CD79-A0E2-4A91-B897-29585B06F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60749-D11E-4B39-9EEC-D1E86A88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8C8CD-7A3F-49F3-B34A-FB790C477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B79AE4-FA54-4ACF-AD17-2B8DC923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BF931-4E62-4AF0-936F-E87B3CC0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2F26CF-8040-4F34-A2F7-8C2A75EE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4BD70-5DEE-4696-A90A-DF8768F8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A872BC-93DB-4614-ABC9-049B3AC0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E617E2-0551-486E-BF13-A08C839A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9E85-B26F-4288-94BC-191F6B1F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0890E-0E74-421E-92E2-D732ACB1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6B5055-0D8C-4BA6-9852-AA3BF9AF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D03DB-3AC3-49EE-8371-E1B2C7D4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BEB09-A2F0-453E-B755-877B19EF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3B2FE-4F25-4C0D-A84D-27B75978A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FD73-597D-4466-92E2-B2E345ED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97C0-4D8C-423A-97BF-657AF50E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6609-62D8-493E-BA05-130F0AFC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5305-D43D-4908-937A-E732EE51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5E09-60FA-4459-8AFD-0C8B3531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C4E9-357E-40FC-998C-E066403C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E754-930B-4C1D-B26C-6743FFB5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94CE-2899-462D-94A0-36D75595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751A-9680-458A-82B1-28A2BDB5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0E6D-30FD-4492-B711-0933B5E6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AFE2-0092-4C41-B093-A6B5027A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DB546-67B2-4328-BFCA-80DBDCF11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C32E3-00AF-478D-AD5F-1238563A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8E09A-C446-45BA-8075-A2C4D42E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62F5F-FE43-481D-A581-8FD61DC4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82AFD-76E0-47DC-BB79-855C4E8D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8673-48BD-494A-84D5-EB3DC589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5CB55-97F3-48F5-8985-76156373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AF50F-EC5F-41DD-B3D8-E229687B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7CF8E-FBB3-49F0-A9E7-97B838A5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28A6B-8005-4E3A-8AFC-FC7A1A14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46DF4-5C5A-4CB9-9B78-DF20BACB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89600-A351-4853-A774-97002F319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19987-35CC-4855-BD40-70D1B2056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E09D4-5A9C-470C-BD1F-0DBFC656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7255D-E281-4107-B0BE-D13C6B05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FCED2-A7EA-44B5-B430-A5B98E62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666E-F86D-4575-9A6D-0AB50FA3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0C19C-8BD6-4CBF-B713-5FC6F9D4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7A3F6-C35E-445B-B35B-2F0E89DF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96470-477F-4419-B810-FD7BD284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4F11A-369A-46B2-8EF8-27BDE1B5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53DD4-4E1A-4B65-B0D5-0E4F6A79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B4CDE-DAFF-4CF1-9554-54D8AF17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8EFC3-65A4-4A10-9809-FBBD7C43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1821D-38CF-4B90-A02C-1AACFB3CF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1487C-FC8E-4C54-8B02-303E177BE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94BEE-454E-4FE7-8FB0-7720A7346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4E29-0A10-47F7-A6A2-E2F6BEE8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BF82F-7472-485C-BE82-EFDDBC33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DDE7C-89A6-4ADB-B6DD-73DC060C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84891-8263-4B62-8F2B-4B9B565B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ED825-1810-41EE-8D0D-C4B1F74D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E7C60-8342-49A1-8EB9-4AE27597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A1858-24A6-47C6-BCFC-8531D381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D5502-8AC9-4939-AEA2-2745C903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71056-28F9-4830-BCD4-D9B77A9D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BE51A-F880-4DF6-B57F-0E86E2BC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E9067-D6EE-49A3-80E4-C9046A16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A09D-D528-45EA-8F9A-2AD93D5D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99D8F-1680-4053-BEC9-327E8A4E4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DB049-00EB-47C2-939C-BEBF9596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E8B24-790F-4183-A1C3-84D8B71F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17F37-AE75-4893-A94D-8AE1A09C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54C96-2C00-472D-BB04-C9EC4F20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89DA2-C89B-4425-A93C-91F95850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6A985-D185-41CD-8F63-88BE2819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B1C09-2610-4789-A4E7-291187BB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51B94-E895-4787-9A53-55CE4469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C7CF5-D7DA-446D-9911-67617867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C5F3-187D-418E-9B22-0138E640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5DE85-77B6-4B08-9A5F-1F2B316C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54C8C-879C-470C-AECB-97C0C98E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E8820-E5CD-46EC-BD74-3CCD2BCA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AFADF-FC7B-4D87-9EBB-CA4F3B92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93160-4CD0-463E-8C88-1DA38AFF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05D51-F24E-426F-86D7-A055B011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B5257-B4AC-423A-AB18-B6C00C43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32737-32C9-4A2A-9A91-6608BB96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C753C-768C-42F5-AB92-D43FEC2F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8E36B-548A-43E3-8B2F-F7CABCB4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EDF9-19A1-4A65-BD58-5A926757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6AA56-053E-4EE1-B59D-C7319710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7A688-9887-47AF-A7E3-CAA9F3E3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4F7D6-329A-4186-8453-2BA271C1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4DB0E-BFCA-4206-929F-E3A938F71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B18A6-3019-4783-A82E-AEFB3D7D8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7484A-FDC9-4E55-9A5C-68506E49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12C0B-0FB8-4FEB-B5EA-27977BC0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1AEA3-05C5-451D-9200-F1AFF116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D683D-75DF-4D96-8E5C-A007CC45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EED9B-7709-4BDA-AF06-116091FB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3BA4-23E9-495C-A55D-261C1FC5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1C794-B649-4E16-8A41-6373A135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7CB98-1CB3-4307-8AD9-1C707DF8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9FF7A-30BC-4663-9638-02AF779C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1507E-1605-4162-A985-71438C23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0F953-83EE-422E-971C-E1ECCF6A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2917B-1484-4A53-99B6-79714C112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6BCB6-78A2-48D8-B815-2B764526C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596FA-4F35-43F0-B32F-0BC6E388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03C45-2E4F-4C4A-98EB-49EF8910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19B5C-BD0A-4784-96D4-577C0CEF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4AA0-789E-45B2-BF80-465ED9A58BC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D1AA-10D9-4542-A212-CACC3431AD9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819C-A669-49BB-829E-18B834CC081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4F8D-5A2C-4974-8D92-205312FDFBA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A980-9156-4BF9-9CC1-6B7B24110B5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3851-76B6-4073-A68D-A3B72F7B2DF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070E-386B-4DA1-BC50-B1D5CE220E0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8C7F-D53B-4D05-96A1-DBD7150658B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98D6-FFE6-4391-9DF9-9921226C18C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555D-6304-4DE5-96F3-588BC949C19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0C3C-A807-4CA0-A990-44A2E2D51BB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70D7-FA44-49A2-9124-42452DA1F38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93 Uplynulý tý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d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ň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z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Uplynulý týždeň za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bol si s nami, Pane ná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ečnej chvály počuj hlas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v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nebesiach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kde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trón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svoj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máš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: Pred tebou sa skláňa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chválu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esť ti vzdávame.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voj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 sľubom veríme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tvoju lásku, dobrot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 dar Ducha prosí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torý vedie k život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: Odním bôle, star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ud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pravej radosti. :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y sa k tebe blíži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ústrety nám vyjdi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y vieš, po čom túži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ukáž svoju slávu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: Už tu sčasti skúsiť d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čo nám chystá večný raj. :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vojím Slovom potešu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útechu daj kajúci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obré snahy upevňu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suš slzy plačúci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: Sobotný deň posväť n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a zemi i v nebi tam. :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3:21:34Z</dcterms:modified>
  <cp:revision>23</cp:revision>
  <dc:subject/>
  <dc:title>Je veľký náš Pán, on slávy je Kráľ Nech do všetkých strán  spev vrúcnych znie chvál.</dc:title>
</cp:coreProperties>
</file>